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EA9B-17C1-4767-8332-B23F2F885D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9B8F-4D70-4618-85DB-76AE407CDC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A9F-8951-462A-B1F7-EABB3BC7D0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2ED-E343-44D1-91D2-7CC3BBA6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803-8166-4492-A297-08A3374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D3C-9AAA-45D2-8271-1844BFD1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255-0E1A-416C-9CD5-1B655D7E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697-1DF8-4EA2-A618-9E9392F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758-B8C8-43C2-A085-B86303EE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2E9-ABB4-4647-BB10-F891235A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C54-9268-4866-BE24-41990152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B58-0121-42D2-BBDB-2EB3878B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EFE-BB8B-4E5C-A012-760D76CD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CDE-B036-4813-84A8-4A1B2AA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40A-C5D4-459F-B199-D38D2405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B6D6-40B2-49D3-8323-A44494925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928960"/>
            <a:ext cx="7772400" cy="1255680"/>
          </a:xfrm>
          <a:prstGeom prst="rect">
            <a:avLst/>
          </a:prstGeom>
          <a:noFill/>
          <a:ln w="38160">
            <a:solidFill>
              <a:srgbClr val="ff0000">
                <a:alpha val="49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Calibri"/>
                <a:ea typeface="Arial"/>
              </a:rPr>
              <a:t>ANIMAL TES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357120"/>
            <a:ext cx="17859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9d9d9"/>
                </a:solidFill>
                <a:latin typeface="Calibri"/>
              </a:rPr>
              <a:t>Celine Teiss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9d9d9"/>
                </a:solidFill>
                <a:latin typeface="Calibri"/>
              </a:rPr>
              <a:t>Nicolas Th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9d9d9"/>
                </a:solidFill>
                <a:latin typeface="Calibri"/>
              </a:rPr>
              <a:t>Julie Vela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9d9d9"/>
                </a:solidFill>
                <a:latin typeface="Calibri"/>
              </a:rPr>
              <a:t>Justine Zor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429240" y="285840"/>
            <a:ext cx="1492560" cy="216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14240" y="4643280"/>
            <a:ext cx="162720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286080" y="5000760"/>
            <a:ext cx="5214960" cy="127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714760" y="714240"/>
            <a:ext cx="2571480" cy="1285920"/>
          </a:xfrm>
          <a:prstGeom prst="rect">
            <a:avLst/>
          </a:prstGeom>
          <a:ln w="0">
            <a:noFill/>
          </a:ln>
          <a:effectLst>
            <a:outerShdw dist="660229" dir="7380331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I.  Real needs of test: can it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st on animals for household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cosm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that really necessa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pharmaceutical sect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existence of alternatives is unden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vage or civilized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7724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III. Remedies and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are alternatives to animal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diva-yoga.com/images/billet/mains_lumiere.jpg"/>
          <p:cNvPicPr/>
          <p:nvPr/>
        </p:nvPicPr>
        <p:blipFill>
          <a:blip r:embed="rId1"/>
          <a:stretch/>
        </p:blipFill>
        <p:spPr>
          <a:xfrm>
            <a:off x="566640" y="420840"/>
            <a:ext cx="1938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For example 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use of cell and tissue cultur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-organism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mputer modeling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s on volunteer human guinea pi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o conclu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do without animal experimentation is necessary and essent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everybody has to do tests without making suffering ani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Moreover, in theory an animal laboratory does not mistreat ani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Tests on animals are certainly known to disappear….but wh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a lack of willingness and ways to improve the treatments on animals of both industrials and resear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the commitment to buy brands with a code of ethics on the te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to submit them and force them to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ous-titre 2"/>
          <p:cNvSpPr/>
          <p:nvPr/>
        </p:nvSpPr>
        <p:spPr>
          <a:xfrm>
            <a:off x="1071720" y="185724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hat do you think about animal t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 you see other solutions to remedy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ould you prefer that we made it on human rather than on ani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680" y="20001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What is the Vivi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I.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Regulations across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II.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Real needs of test: can it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III.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Remedies and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52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What is the vivise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peration performed on a living an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357200" y="4500720"/>
            <a:ext cx="65246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00040" y="856800"/>
            <a:ext cx="8229600" cy="507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ir origin in the first century , with the work of Galen, anatomist and physiologist, who recommended to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ly on experimentation (dissection) rather than on the messag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dissec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dead animal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can identify the position of orga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aude Berna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17th century. He cooked dogs in ovens specially designed for this purpos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very minute, five animals die in French laboratorie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orldwide, twenty-five animals die every secon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most all the products we use have been tested on anim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429080" y="1428840"/>
            <a:ext cx="3095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this, animals are imprisoned in metal cages, forced to endure forced ingestions, irrited on the skin or ey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raize test), mutilations, irradiations, contagion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xperiments unreliabl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ternative methods are both more accurate, less expensive and do not inflict suffe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t habits die hard and many researchers refuse to switch to these more modern methods and more effici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iments on animals = hindrance to progr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tinue year after year to take its toll, both human and ani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EGULATIONS ACROSS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uropean legis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nce September 2004: testing finished products on animals is prohib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nce September 2009: testing ingredients (or combination of ingredients) on animal is prohib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y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553080" y="4437000"/>
            <a:ext cx="2556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EGULATIONS ACROSS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gulations evolve slowly, but some countries are trying to make a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xample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2041560" cy="307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3405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EGULATIONS ACROSS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roblem of United States of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85840" y="2786040"/>
            <a:ext cx="2678040" cy="344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5256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8:29:45Z</dcterms:created>
  <dc:creator>J'n'B</dc:creator>
  <dc:description/>
  <dc:language>en-US</dc:language>
  <cp:lastModifiedBy>J'n'B</cp:lastModifiedBy>
  <dcterms:modified xsi:type="dcterms:W3CDTF">2009-12-08T12:51:54Z</dcterms:modified>
  <cp:revision>31</cp:revision>
  <dc:subject/>
  <dc:title>Diapositive 1</dc:title>
</cp:coreProperties>
</file>